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C11-0E16-4F7C-93A6-D5DF116D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143-EF8D-4351-8833-1DE03633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544-3AF5-40C4-84E5-C93768D8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F8-3FBC-40B7-90FE-4DD3F26C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0BE-1329-48A5-8715-0085F06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75D-1930-4E37-BBC4-E457B022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8BF-580A-4C15-9BEB-7852D22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9BD-C4A7-401B-A763-C6C8869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304-3D41-4B96-A908-DBE7460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9F0-78B7-4EE0-BC49-20B3154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B16-B54F-45A5-8057-033D7C0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BF0-5FAD-4577-AE26-03CE263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A2E-BF1D-4CCC-8ADE-701A9803956E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0"/>
            <a:ext cx="421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دَعُوا الأَطفالَ يَأتُونَ إِلَيَّ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اَ تَمْنَعُوهُمْ فَلأَمْثالِ هَؤلاء مَلَكُوتُ الله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5:22:30Z</dcterms:created>
  <dc:creator>Charbel Azar</dc:creator>
  <dc:description/>
  <dc:language>en-US</dc:language>
  <cp:lastModifiedBy>Charbel Azar</cp:lastModifiedBy>
  <dcterms:modified xsi:type="dcterms:W3CDTF">2003-03-14T21:16:18Z</dcterms:modified>
  <cp:revision>4</cp:revision>
  <dc:subject/>
  <dc:title>PowerPoint Presentation</dc:title>
</cp:coreProperties>
</file>